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17.wmf" ContentType="image/x-wmf"/>
  <Override PartName="/ppt/media/image6.gif" ContentType="image/gif"/>
  <Override PartName="/ppt/media/image20.wmf" ContentType="image/x-wmf"/>
  <Override PartName="/ppt/media/image7.gif" ContentType="image/gif"/>
  <Override PartName="/ppt/media/image12.gif" ContentType="image/gif"/>
  <Override PartName="/ppt/media/image15.png" ContentType="image/png"/>
  <Override PartName="/ppt/media/image24.jpeg" ContentType="image/jpeg"/>
  <Override PartName="/ppt/media/image14.png" ContentType="image/png"/>
  <Override PartName="/ppt/media/image9.wmf" ContentType="image/x-wmf"/>
  <Override PartName="/ppt/media/image13.wmf" ContentType="image/x-wmf"/>
  <Override PartName="/ppt/media/image23.gif" ContentType="image/gif"/>
  <Override PartName="/ppt/media/image11.wmf" ContentType="image/x-wmf"/>
  <Override PartName="/ppt/media/image30.gif" ContentType="image/gif"/>
  <Override PartName="/ppt/media/image16.wmf" ContentType="image/x-wmf"/>
  <Override PartName="/ppt/media/image10.wmf" ContentType="image/x-wmf"/>
  <Override PartName="/ppt/media/image4.jpeg" ContentType="image/jpeg"/>
  <Override PartName="/ppt/media/image8.wmf" ContentType="image/x-wmf"/>
  <Override PartName="/ppt/media/image5.wmf" ContentType="image/x-wmf"/>
  <Override PartName="/ppt/media/image3.jpeg" ContentType="image/jpeg"/>
  <Override PartName="/ppt/media/image28.wmf" ContentType="image/x-wmf"/>
  <Override PartName="/ppt/media/image18.wmf" ContentType="image/x-wmf"/>
  <Override PartName="/ppt/media/image2.jpeg" ContentType="image/jpeg"/>
  <Override PartName="/ppt/media/image25.wmf" ContentType="image/x-wmf"/>
  <Override PartName="/ppt/media/image1.wmf" ContentType="image/x-wmf"/>
  <Override PartName="/ppt/media/image21.wmf" ContentType="image/x-wmf"/>
  <Override PartName="/ppt/media/image19.png" ContentType="image/png"/>
  <Override PartName="/ppt/media/image22.wmf" ContentType="image/x-wmf"/>
  <Override PartName="/ppt/media/image26.wmf" ContentType="image/x-wmf"/>
  <Override PartName="/ppt/media/image2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9D29-0010-4B07-ADAD-9B74C14A5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F4F4-8936-4054-A0ED-DED39C4C7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F928-F09F-43EB-8C0E-E70294640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2C98-01B7-48FA-AD4A-8F0CBDE1E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4E8DB-10E6-49A8-9540-6D45310A8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54F7F-B270-467E-877D-BB541601B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2D5F4-40F7-4EA3-B393-A2294F8FC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5F773-79BD-4BE8-A28C-4D0309AE2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4A345-A61F-4EE4-941B-CBBE99B9E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D86C8-5D7A-414F-9B8D-5C04B9E21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04A3A-4550-4436-B427-06BDDC68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F4A6-C289-4418-B92D-0B010703F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3EFFF-3E7A-415D-9FEC-82C8E8A0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7688E-8CDB-42BE-90EB-1EECCCA2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9B9F9-4D31-407A-B5C9-990408BB9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B5AC5-2762-4695-846B-EA70E9B5C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5CBFB-63F4-4EBB-81E9-F91F6AB9B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A0F8-31C1-4A07-97C9-5AAC156AF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EDE2-D70D-44B5-93A6-E69AC8EF9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D188-7EBF-4D79-B0A7-D739E8142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A188-0BBC-48FB-8455-ACA13D76E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57BB-234B-4E19-BA86-5F7BAB6F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54B1-2E82-4827-8D94-3A5EEF54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72B8-6C14-4C5D-90E0-38D8F558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45A77-C9D0-4E05-AD7E-6577807E9EB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E806E-C3B2-487B-A908-31C59CB2E030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91" name="Picture 4" descr="j0297705"/>
          <p:cNvPicPr/>
          <p:nvPr/>
        </p:nvPicPr>
        <p:blipFill>
          <a:blip r:embed="rId1"/>
          <a:stretch/>
        </p:blipFill>
        <p:spPr>
          <a:xfrm>
            <a:off x="0" y="50760"/>
            <a:ext cx="9144000" cy="68072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7"/>
          <p:cNvSpPr/>
          <p:nvPr/>
        </p:nvSpPr>
        <p:spPr>
          <a:xfrm>
            <a:off x="609480" y="609480"/>
            <a:ext cx="4038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Energy: Forms and Changes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Chemical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46892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Chemical Energy is required to bond atoms together.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And when bonds are broken, energy is released.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Chemical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35798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Fuel and food are forms of stored chemical energy</a:t>
            </a: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2" name="Picture 4" descr="j0233391"/>
          <p:cNvPicPr/>
          <p:nvPr/>
        </p:nvPicPr>
        <p:blipFill>
          <a:blip r:embed="rId1"/>
          <a:stretch/>
        </p:blipFill>
        <p:spPr>
          <a:xfrm>
            <a:off x="4876920" y="1676520"/>
            <a:ext cx="380988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Electromagnetic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6783120" cy="221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Power lines carry electromagnetic energy into your home in the form of electricity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5" name="Picture 4" descr="j0254406"/>
          <p:cNvPicPr/>
          <p:nvPr/>
        </p:nvPicPr>
        <p:blipFill>
          <a:blip r:embed="rId1"/>
          <a:stretch/>
        </p:blipFill>
        <p:spPr>
          <a:xfrm>
            <a:off x="2590920" y="4191120"/>
            <a:ext cx="495288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Electromagnetic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4802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Light is a form of electromagnetic energy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Each color of light (Roy G Biv) represents a different amount of electromagnetic energy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Electromagnetic Energy is also carried by X-rays, radio waves, and laser light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8" name="Picture 4" descr="j0346439"/>
          <p:cNvPicPr/>
          <p:nvPr/>
        </p:nvPicPr>
        <p:blipFill>
          <a:blip r:embed="rId1"/>
          <a:stretch/>
        </p:blipFill>
        <p:spPr>
          <a:xfrm>
            <a:off x="6400800" y="1752480"/>
            <a:ext cx="228600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Nuclear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The nucleus of an atom is the source of nuclear energy. 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1" name="Picture 7" descr="slide2"/>
          <p:cNvPicPr/>
          <p:nvPr/>
        </p:nvPicPr>
        <p:blipFill>
          <a:blip r:embed="rId1"/>
          <a:stretch/>
        </p:blipFill>
        <p:spPr>
          <a:xfrm>
            <a:off x="5105520" y="2057400"/>
            <a:ext cx="358128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Nuclear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When the nucleus splits (fission), nuclear energy is released in the form of heat energy and light energy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Nuclear energy is also released when nuclei collide at high speeds and join (fuse)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Nuclear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35" name="Picture 4" descr="eit-304-sm"/>
          <p:cNvPicPr/>
          <p:nvPr/>
        </p:nvPicPr>
        <p:blipFill>
          <a:blip r:embed="rId1"/>
          <a:stretch/>
        </p:blipFill>
        <p:spPr>
          <a:xfrm>
            <a:off x="1143000" y="1828800"/>
            <a:ext cx="3886200" cy="396252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6"/>
          <p:cNvSpPr/>
          <p:nvPr/>
        </p:nvSpPr>
        <p:spPr>
          <a:xfrm>
            <a:off x="5562720" y="1981080"/>
            <a:ext cx="2971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sun’s energy is produced from a nuclear fusion reaction in which hydrogen nuclei fuse to form helium nuclei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Nuclear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Nuclear energy is the most concentrated form of energy.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9" name="Picture 9" descr="j0233105"/>
          <p:cNvPicPr/>
          <p:nvPr/>
        </p:nvPicPr>
        <p:blipFill>
          <a:blip r:embed="rId1"/>
          <a:stretch/>
        </p:blipFill>
        <p:spPr>
          <a:xfrm>
            <a:off x="5029200" y="1981080"/>
            <a:ext cx="3189240" cy="31528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0"/>
          <p:cNvSpPr/>
          <p:nvPr/>
        </p:nvSpPr>
        <p:spPr>
          <a:xfrm>
            <a:off x="1905120" y="5638680"/>
            <a:ext cx="55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Verdana"/>
              </a:rPr>
              <a:t>The Surry Nuclear Power Plant converts nuclear energy into electromagnetic energy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Mechanical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6935760" cy="19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When work is done to an object, it acquires energy. The energy it acquires is known as mechanical energy.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Mechanical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When you kick a football, you give mechancal energy to the football to make it move.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5" name="Picture 11" descr="j0238729"/>
          <p:cNvPicPr/>
          <p:nvPr/>
        </p:nvPicPr>
        <p:blipFill>
          <a:blip r:embed="rId1"/>
          <a:stretch/>
        </p:blipFill>
        <p:spPr>
          <a:xfrm>
            <a:off x="5105520" y="2133720"/>
            <a:ext cx="35812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Nature of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685944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Energy is all around you!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You can hear energy as sound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You can see energy as light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And you can feel it as wind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5" name="Picture 4" descr="j0149003"/>
          <p:cNvPicPr/>
          <p:nvPr/>
        </p:nvPicPr>
        <p:blipFill>
          <a:blip r:embed="rId1"/>
          <a:stretch/>
        </p:blipFill>
        <p:spPr>
          <a:xfrm>
            <a:off x="5029200" y="4572000"/>
            <a:ext cx="2979720" cy="1981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j0149108"/>
          <p:cNvPicPr/>
          <p:nvPr/>
        </p:nvPicPr>
        <p:blipFill>
          <a:blip r:embed="rId2"/>
          <a:stretch/>
        </p:blipFill>
        <p:spPr>
          <a:xfrm>
            <a:off x="838080" y="4572000"/>
            <a:ext cx="29480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" dur="500" autoRev="1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)"/>
                                      </p:to>
                                    </p:set>
                                    <p:set>
                                      <p:cBhvr>
                                        <p:cTn id="10" dur="500" autoRev="1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)"/>
                                      </p:to>
                                    </p:set>
                                    <p:set>
                                      <p:cBhvr>
                                        <p:cTn id="11" dur="500" autoRev="1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500" autoRev="1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)"/>
                                      </p:to>
                                    </p:set>
                                    <p:set>
                                      <p:cBhvr>
                                        <p:cTn id="14" dur="500" autoRev="1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)"/>
                                      </p:to>
                                    </p:set>
                                    <p:set>
                                      <p:cBhvr>
                                        <p:cTn id="15" dur="500" autoRev="1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500" autoRev="1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-1)"/>
                                      </p:to>
                                    </p:set>
                                    <p:set>
                                      <p:cBhvr>
                                        <p:cTn id="18" dur="500" autoRev="1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-1)"/>
                                      </p:to>
                                    </p:set>
                                    <p:set>
                                      <p:cBhvr>
                                        <p:cTn id="19" dur="500" autoRev="1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Mechanical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47" name="Picture 4" descr="j0239867"/>
          <p:cNvPicPr/>
          <p:nvPr/>
        </p:nvPicPr>
        <p:blipFill>
          <a:blip r:embed="rId1"/>
          <a:stretch/>
        </p:blipFill>
        <p:spPr>
          <a:xfrm>
            <a:off x="1295280" y="1828800"/>
            <a:ext cx="2895840" cy="39625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6"/>
          <p:cNvSpPr/>
          <p:nvPr/>
        </p:nvSpPr>
        <p:spPr>
          <a:xfrm>
            <a:off x="4724280" y="1905120"/>
            <a:ext cx="3429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4724280" y="1981080"/>
            <a:ext cx="3429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hen you throw a balling ball, you give it energy. When that bowling ball hits the pins, some of the energy is transferred to the pins (transfer of momentum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Light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lectromagnetic Energy in Heat wav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xamples: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unlight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Light Bulbs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Headlights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2" name="Picture 3" descr="C:\Users\gnwalton\AppData\Local\Microsoft\Windows\Temporary Internet Files\Content.IE5\IL4FTOGN\MC900432617[1].png"/>
          <p:cNvPicPr/>
          <p:nvPr/>
        </p:nvPicPr>
        <p:blipFill>
          <a:blip r:embed="rId1"/>
          <a:stretch/>
        </p:blipFill>
        <p:spPr>
          <a:xfrm>
            <a:off x="5181480" y="27432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Sound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e squeezing of air molecules when an object vibrat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Music instruments and noise carry sound energy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5" name="Picture 3" descr="C:\Users\gnwalton\AppData\Local\Microsoft\Windows\Temporary Internet Files\Content.IE5\SFXCLWCO\MC900440448[1].wmf"/>
          <p:cNvPicPr/>
          <p:nvPr/>
        </p:nvPicPr>
        <p:blipFill>
          <a:blip r:embed="rId1"/>
          <a:stretch/>
        </p:blipFill>
        <p:spPr>
          <a:xfrm>
            <a:off x="4114800" y="4038480"/>
            <a:ext cx="1584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Electrical Energy 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nergy in electricity and electrical charged object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lectrical energy is produced by an electrical curren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Picture 2" descr="C:\Users\gnwalton\AppData\Local\Microsoft\Windows\Temporary Internet Files\Content.IE5\IL4FTOGN\MC910217618[1].wmf"/>
          <p:cNvPicPr/>
          <p:nvPr/>
        </p:nvPicPr>
        <p:blipFill>
          <a:blip r:embed="rId1"/>
          <a:stretch/>
        </p:blipFill>
        <p:spPr>
          <a:xfrm>
            <a:off x="5562720" y="3505320"/>
            <a:ext cx="1515960" cy="19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Magnetic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Magnetic Energy can be found in door buzzers, speakers, and of course magnets!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1" name="Picture 2" descr="C:\Users\gnwalton\AppData\Local\Microsoft\Windows\Temporary Internet Files\Content.IE5\QYC153RJ\MC900322447[1].wmf"/>
          <p:cNvPicPr/>
          <p:nvPr/>
        </p:nvPicPr>
        <p:blipFill>
          <a:blip r:embed="rId1"/>
          <a:stretch/>
        </p:blipFill>
        <p:spPr>
          <a:xfrm>
            <a:off x="5410080" y="3048120"/>
            <a:ext cx="29322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Energy Conversion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nergy can be changed from one form to another. Changes in the form of energy are called energy conversions. 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Energy conversions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All forms of energy can be converted into other form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The sun’s energy through solar cells can be converted directly into electricity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Green plants convert the sun’s energy (electromagnetic) into starches and sugars (chemical energy)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Other energy conversions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In an electric motor, electromagnetic energy is converted to mechanical energy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In a battery, chemical energy is converted into electromagnetic energy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The mechanical energy of a waterfall is converted to electrical energy in a generator.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Energy Conversions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In an automobile engine, fuel is burned to convert chemical energy into heat energy. The heat energy is then changed into mechanical energy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Picture 9" descr="j0189238"/>
          <p:cNvPicPr/>
          <p:nvPr/>
        </p:nvPicPr>
        <p:blipFill>
          <a:blip r:embed="rId1"/>
          <a:stretch/>
        </p:blipFill>
        <p:spPr>
          <a:xfrm>
            <a:off x="5486400" y="1981080"/>
            <a:ext cx="32767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18960" y="3581280"/>
            <a:ext cx="73134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Chemical </a:t>
            </a:r>
            <a:r>
              <a:rPr b="0" lang="en-US" sz="3600" spc="-1" strike="noStrike">
                <a:solidFill>
                  <a:srgbClr val="0066f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 Heat </a:t>
            </a:r>
            <a:r>
              <a:rPr b="0" lang="en-US" sz="3600" spc="-1" strike="noStrike">
                <a:solidFill>
                  <a:srgbClr val="0066f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Mechanical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72" name="Picture 7" descr="j0289534"/>
          <p:cNvPicPr/>
          <p:nvPr/>
        </p:nvPicPr>
        <p:blipFill>
          <a:blip r:embed="rId1"/>
          <a:stretch/>
        </p:blipFill>
        <p:spPr>
          <a:xfrm>
            <a:off x="1752480" y="1143000"/>
            <a:ext cx="5562720" cy="31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Nature of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You use energy when you: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hit a softball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lift your book bag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compress a spring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9" name="Picture 4" descr="j0289499"/>
          <p:cNvPicPr/>
          <p:nvPr/>
        </p:nvPicPr>
        <p:blipFill>
          <a:blip r:embed="rId1"/>
          <a:stretch/>
        </p:blipFill>
        <p:spPr>
          <a:xfrm>
            <a:off x="5029200" y="2286000"/>
            <a:ext cx="358128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States of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e most common energy conversion is the conversion between potential and kinetic energy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All forms of energy can be in either of two states: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Potentia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Kinetic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States of Energy: </a:t>
            </a:r>
            <a:br>
              <a:rPr sz="3200"/>
            </a:b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Kinetic and Potential Energy</a:t>
            </a:r>
            <a:endParaRPr b="0" lang="en-US" sz="32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25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Kinetic Energy is the energy of motion.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Potential Energy is stored energy</a:t>
            </a: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Kinetic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e energy of motion is called kinetic energy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e faster an object moves, the more kinetic energy it ha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e greater the mass of a moving object, the more kinetic energy it ha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Kinetic energy depends on both mass and velocity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Potential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Potential Energy is stored energy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hemical Potentia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Energy stored chemically in fuel, the nucleus of atom, and in food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nergy can also be stored because of the work done on it: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ff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tretching a rubber band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ff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Winding a watch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ff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Pulling back on a bow’s arrow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ff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Lifting a brick high in the air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Potential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Gravitational Potential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energy that is dependent on height is called gravitational potential energy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3" name="Picture 6" descr="j0174827"/>
          <p:cNvPicPr/>
          <p:nvPr/>
        </p:nvPicPr>
        <p:blipFill>
          <a:blip r:embed="rId1"/>
          <a:stretch/>
        </p:blipFill>
        <p:spPr>
          <a:xfrm>
            <a:off x="5119560" y="1981080"/>
            <a:ext cx="34768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Gravitational Potential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0160" y="1827000"/>
            <a:ext cx="6859440" cy="205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A waterfall, a suspension bridge, and a falling snowflake all have gravitational potential energy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6" name="Picture 4" descr="j0215316"/>
          <p:cNvPicPr/>
          <p:nvPr/>
        </p:nvPicPr>
        <p:blipFill>
          <a:blip r:embed="rId1"/>
          <a:stretch/>
        </p:blipFill>
        <p:spPr>
          <a:xfrm>
            <a:off x="1676520" y="3429000"/>
            <a:ext cx="64008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Gravitational Potential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e bigger they are the harder they fall” is not just a saying. It’s true. Objects with more mass have greater G.P.E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Potential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6478560" cy="175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Elastic Potentia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Energy that is stored due to being stretched or compressed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1" name="j0289575.jpg" descr=""/>
          <p:cNvPicPr/>
          <p:nvPr/>
        </p:nvPicPr>
        <p:blipFill>
          <a:blip r:embed="rId1"/>
          <a:stretch/>
        </p:blipFill>
        <p:spPr>
          <a:xfrm>
            <a:off x="1828800" y="3429000"/>
            <a:ext cx="1587600" cy="19810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j0287339"/>
          <p:cNvPicPr/>
          <p:nvPr/>
        </p:nvPicPr>
        <p:blipFill>
          <a:blip r:embed="rId2"/>
          <a:stretch/>
        </p:blipFill>
        <p:spPr>
          <a:xfrm>
            <a:off x="4952880" y="3429000"/>
            <a:ext cx="17924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426" nodeType="clickEffect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29" dur="1" fill="hold"/>
                                        <p:tgtEl>
                                          <p:spTgt spid="1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Kinetic-Potential Energy Conversion</a:t>
            </a:r>
            <a:endParaRPr b="0" lang="en-US" sz="32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1447920" y="2057400"/>
            <a:ext cx="6781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oller coasters work because of the energy that is built into the system. Initially, the cars are pulled mechanically up the tallest hill, giving them a great deal of potential energy. From that point, the conversion between potential and kinetic energy powers the cars throughout the entire rid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5" name="Picture 11" descr="j0150157"/>
          <p:cNvPicPr/>
          <p:nvPr/>
        </p:nvPicPr>
        <p:blipFill>
          <a:blip r:embed="rId1"/>
          <a:stretch/>
        </p:blipFill>
        <p:spPr>
          <a:xfrm>
            <a:off x="2286000" y="4191120"/>
            <a:ext cx="5105520" cy="24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Kinetic vs. Potential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97" name="Picture 4" descr="ce"/>
          <p:cNvPicPr/>
          <p:nvPr/>
        </p:nvPicPr>
        <p:blipFill>
          <a:blip r:embed="rId1"/>
          <a:stretch/>
        </p:blipFill>
        <p:spPr>
          <a:xfrm>
            <a:off x="1370160" y="1827360"/>
            <a:ext cx="6975360" cy="313848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1371600" y="556272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t the point of maximum potential energy, the car has minimum kinetic energy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Nature of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64771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Living organisms need energy for growth and movement.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2" name="Picture 4" descr="j0332364"/>
          <p:cNvPicPr/>
          <p:nvPr/>
        </p:nvPicPr>
        <p:blipFill>
          <a:blip r:embed="rId1"/>
          <a:stretch/>
        </p:blipFill>
        <p:spPr>
          <a:xfrm>
            <a:off x="1447920" y="1676520"/>
            <a:ext cx="3657600" cy="2531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j0288860"/>
          <p:cNvPicPr/>
          <p:nvPr/>
        </p:nvPicPr>
        <p:blipFill>
          <a:blip r:embed="rId2"/>
          <a:stretch/>
        </p:blipFill>
        <p:spPr>
          <a:xfrm>
            <a:off x="5334120" y="1676520"/>
            <a:ext cx="304776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The Law of Conservation of Energy</a:t>
            </a:r>
            <a:endParaRPr b="0" lang="en-US" sz="32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nergy can be neither created nor destroyed by ordinary mean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It can only be converted from one form to another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If energy seems to disappear, then scientists look for it – leading to many important discoverie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Law of Conservation of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In 1905, Albert Einstein said that mass and energy can be converted into each other. 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He showed that if matter is destroyed, energy is created, and if energy is destroyed mass is created.            </a:t>
            </a: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ff"/>
              </a:buClr>
              <a:buSzPct val="60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 = MC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Vocabulary Words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371600" y="160020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energ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mechanical energ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heat energ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chemical energ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electromagnetic energ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nuclear energ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Light Energ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ound Energ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Electrica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Magnetic Energ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88000" indent="-2880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5105520" y="167652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kinetic energ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otential energ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gravitational potential energ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energy conversi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Law of Conservation of Energ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Nature of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Energy is involved when: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a bird flie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a bomb explode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rain falls from the sky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electricity flows in a wire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6" name="Picture 7" descr="j0283219"/>
          <p:cNvPicPr/>
          <p:nvPr/>
        </p:nvPicPr>
        <p:blipFill>
          <a:blip r:embed="rId1"/>
          <a:stretch/>
        </p:blipFill>
        <p:spPr>
          <a:xfrm>
            <a:off x="5105520" y="2108160"/>
            <a:ext cx="3733560" cy="3530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j0281782"/>
          <p:cNvPicPr/>
          <p:nvPr/>
        </p:nvPicPr>
        <p:blipFill>
          <a:blip r:embed="rId2"/>
          <a:stretch/>
        </p:blipFill>
        <p:spPr>
          <a:xfrm>
            <a:off x="304920" y="4648320"/>
            <a:ext cx="1541520" cy="1803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j0196198"/>
          <p:cNvPicPr/>
          <p:nvPr/>
        </p:nvPicPr>
        <p:blipFill>
          <a:blip r:embed="rId3"/>
          <a:stretch/>
        </p:blipFill>
        <p:spPr>
          <a:xfrm>
            <a:off x="6324480" y="152280"/>
            <a:ext cx="1776600" cy="16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Nature of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What is energy that it can be involved in so many different activities?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nergy can be defined as the ability to do work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If an object or organism does work (exerts a force over a distance to move an object) the object or organism uses energy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99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Nature of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825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Because of the direct connection between energy and work, energy is measured in the same unit as work: joules (J).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825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In addition to using energy to do work, objects gain energy because work is being done on them.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Forms of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4039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24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The nine forms of energy are: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e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hemic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lectromagneti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uclea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chanic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igh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oun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lectric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31440" indent="-24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eti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5" name="Picture 7" descr="C:\Users\gnwalton\AppData\Local\Microsoft\Windows\Temporary Internet Files\Content.IE5\UXQ2WTWY\MC900014095[1].wmf"/>
          <p:cNvPicPr/>
          <p:nvPr/>
        </p:nvPicPr>
        <p:blipFill>
          <a:blip r:embed="rId1"/>
          <a:stretch/>
        </p:blipFill>
        <p:spPr>
          <a:xfrm>
            <a:off x="6454800" y="2362320"/>
            <a:ext cx="208908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Heat Energy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e internal motion of the atoms is called heat energy, because moving particles produce heat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Heat energy can be produced by friction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Heat energy causes changes in temperature and phase of any form of matter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3T23:14:26Z</dcterms:created>
  <dc:creator>Vicki Lewis</dc:creator>
  <dc:description/>
  <dc:language>en-US</dc:language>
  <cp:lastModifiedBy>James Scheuer</cp:lastModifiedBy>
  <dcterms:modified xsi:type="dcterms:W3CDTF">2017-02-28T15:03:47Z</dcterms:modified>
  <cp:revision>34</cp:revision>
  <dc:subject/>
  <dc:title>Energy:</dc:title>
</cp:coreProperties>
</file>